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A92-E69D-4662-B696-E74DFC4A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6C5-81B8-435A-8CE8-7E41290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7E2-4127-47A1-81B8-4FEFC21D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C5A-E852-4AF7-93C3-9BC31336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9EA-61BA-4D5D-BFC9-51A84EA0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E80-4A9D-448B-9873-7E09F9C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7A8-AC8F-4953-9280-5A4F8ACB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C2B4-9563-4183-8BAA-BF31C00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D2A8-4FEB-4F1B-ADD0-2DDCB146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DC47-4D15-4218-8FDE-4DFB57E6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0F04-C8CC-4623-B978-5DEEBB2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0E2-247F-4273-8571-A36AF7A2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8078-4A6F-4360-A5E0-CBC8278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AF24-2CA2-4205-9D73-39ABD30F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6B29-4486-4F2D-A935-5CC6FB62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25F-FEA0-4C28-AA4B-32C985EC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9A4D-0650-428B-8390-3ABE550F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79-CD1F-4116-A980-5F4B4D5E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3E9-613E-4FB3-A3AF-B8DDF12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440-8963-4B10-92D2-E9B728C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2C7-B491-4726-A0F9-6461449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AF1-E7DC-45D0-90EE-AAB84D3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6B1-F23D-475C-A40E-9B7703D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464-51A9-4658-A33C-5D001D9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389D-E6E1-4AC8-A8DC-A2FCF5F1D52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445-F3D9-4828-985F-2B2BA833052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35B6-E877-45A9-B0DE-5F4FDEF44E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395280" y="404640"/>
            <a:ext cx="8353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 уроке не скучай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мело руку  поднимай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Быстро, чётко  отвечай,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Время даром не теряй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777708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лгоритм действ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00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.  Определить количество простых предложе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( простое или сложное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.  Определить средства связи простых предложений в сложн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(союзная или бессоюзная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.  Знаки препин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9E6F-AE5D-4806-B39A-17108353B2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D3E-DC74-49C8-819B-850C32243E1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http://lusana.ru/files/4568/573/2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7276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3640" y="1844640"/>
            <a:ext cx="421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под утро снего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Поле забелел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чно пелено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ё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дел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веств., невоскл., сложное, бессоюзно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720" y="1844280"/>
            <a:ext cx="4859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жьи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ни коротк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лнце светит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шли морозцы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има настал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веств., невоскл., сложное,бессоюзная и союзная связи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1EC-62A3-4653-B692-B7DDB6FF989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90756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знакомились  с порядком  синтаксического разбора сложного предложен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учились  производить синтаксический разбор сложных  предложений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учились  находить в тексте сложные предложения, производить их синтаксический разбо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77E-62B4-42D8-A202-A396CF9077E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 работал   активно\пассив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воей работой на уроке я доволен\недоволе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 урок я устал\не уста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териал урока мне был понятен\не понятен, полезен\не полезен, интересен\не интересе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к для меня показался коротким\ длинны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C135-0A0F-4506-B67E-8F460ADF95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бота по тексту: выполните синтаксический разбор сложных предложений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пишите сочинение-миниатюру на тему «Зима», включив сложные предложения (задание на выбор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AA2-B8DB-4E55-9436-C8A7F957CA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08C-2639-4E52-8DD8-9DCCC84F428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37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бъясните смысл пословиц 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1.Зима — хранительница     полей.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2.Все зимой сгожается, что летом урожается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ишите пословицы, определите вид предложений, составьте характеристи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828800"/>
            <a:ext cx="79185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1. Зима — хранительница полей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2. Все зимой сгожается, что летом урожается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омер слайда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44F-9319-44F6-A1A0-D526C33F73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5B4D-3BCC-43CA-B25C-2FEA80B738F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8000" y="0"/>
            <a:ext cx="9036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. Вид предложения по цели высказывани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(повествовательные, вопросительные, побудительны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. Вид предложения по интонаци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(восклицательные и невосклицательны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3. Грамматическая основа предложения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(главные члены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460-D2E7-4411-86BB-406052BB72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08000" y="189000"/>
            <a:ext cx="9036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. Вид предложения по наличию второстепенных членов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(распространённое и нераспространённо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5. Вид предложения по наличию однородных членов и обращени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(Осложнённое и неосложнённо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33CB-D419-4095-A875-6343DC10E12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920000" cy="338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интаксический разбор простого предложени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30DA-F2B6-4776-A4E5-1F88E409D50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920000" cy="338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Синтаксический разбор сложного предложени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87096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Цели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620640"/>
            <a:ext cx="9036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знакомиться  с порядком  синтаксического разбора сложного предложения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учиться правильно производить синтаксический разбор сложных  предложений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учиться находить в тексте сложные предложения, производить их синтаксический разбор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482-F2C7-4CC5-BBFA-3C9F7345A1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3422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Алгоритм действи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. Вид предложения по цели высказывани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(повествовательные, вопросительные, побудительны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2. Вид предложения по интонаци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(восклицательные и невосклицательные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330E-36EE-4612-B8BB-72CBFE93A6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1:49:23Z</dcterms:created>
  <dc:creator>www.PHILka.RU</dc:creator>
  <dc:description/>
  <dc:language>en-US</dc:language>
  <cp:lastModifiedBy>Пользователь</cp:lastModifiedBy>
  <dcterms:modified xsi:type="dcterms:W3CDTF">2016-12-14T16:44:46Z</dcterms:modified>
  <cp:revision>29</cp:revision>
  <dc:subject/>
  <dc:title>Синтаксический разбор сложного предло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10000000000010250300207f7000400038000</vt:lpwstr>
  </property>
</Properties>
</file>